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833-4698-4190-9D29-C2B33CDE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6B9D-919C-4076-BBF6-E721BAA8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781F-78E3-47C3-9656-B9C07885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C45-3A04-4569-A56D-D9B89DD5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B40A-FA19-48DD-972E-6699FE82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7CB1-F934-45C9-A3FE-8793A5E4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DE9B-448D-4DD2-A4C9-75E825E8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4AFD-E9D3-4E73-9DB6-06081103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07DE-04B1-4748-A857-D218DA79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CAB4-8780-4325-98D9-2DD4C4B0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EACD-655A-407F-89DF-91719BE2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092-3383-4190-9154-3E232652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6F2B-5539-41F5-9279-7FC9AC7C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4A0E-D332-4E48-AAE1-A85AF579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E6DD-2CF3-45A5-94CC-2B2B8FDD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F77D-FE38-47D3-BBB4-F1C7D8B8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A4C1-FE80-498B-A3A4-6ACFD3DD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7A1-4088-4817-BA35-952B1DB3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68D-13FD-4978-A4CF-0D145A19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8DC9-E94B-41D0-A557-EBC89AFF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41DB-8721-4972-9B31-437644C7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1A82-09F1-4BA5-B5E0-2BFFD7BC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6EF5-BE86-4323-B9E8-846BE007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6D9-6FD0-4437-840C-40E0983B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9205-DF19-4334-9011-44767D1A2DB2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633F-B702-4185-ADA0-906E525D402B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367"/>
              </a:buClr>
              <a:buFont typeface="Tahoma"/>
              <a:buChar char="◊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367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367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367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Final Review</a:t>
            </a:r>
            <a:br>
              <a:rPr sz="4400"/>
            </a:b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(Civil War) 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Reason for secession of southern states, and the election of Abraham Lincoln 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Lincoln wants to preserve the union and end all slaver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outhern states rebel 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ey break off and make the own part of the united state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9301320" y="609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3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Who were these people, and what was their role?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Abraham Lincoln- President during the Civil War. 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Gen. Ulysses S. Grant- general commander of the union forces elected president for 2 terms (after war)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Gen. William Sherman- General famous for march to the sea fought Indian wars in the west after march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Jefferson Davis- President of the confederacy arrested for going against the government. 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Gen. Robert E. Lee- General commander of the confederate forces 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War resources, and strategy 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3354480" cy="525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352680" y="2662200"/>
            <a:ext cx="579132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Battles of the Civil War 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Battle of Bull Run- Was a confederate Victory  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Battle of Antietam- 2,108 union soldiers killed and 9549 wounded 270 confederate soldiers killed and 9029 wounded Battle had no clear winner general Lee withdrew to Virginia 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Battle of Gettysburg- Very famous battle On November 19 President Lincoln named a piece of the battle field a cemetery and gave his famous Gettysburg address. 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March To The Sea- Sherman lead this march through Georgia destroying everything in his path  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Emancipation Proclamation 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Lincoln freed all of the slaves that were not yet fre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He threatened all slave owners to let there slaves go or that armed forces would be sent ion to enforce the new la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Gettysburg Address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t was given in Gettysburg PA. 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as given to dedicate a piece of the battle fiend in o a soldiers cemeter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Challenges facing soldiers in the war. 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oldiers faced many hard time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ere also was w problem with African American troops 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ey were thought to be lower class citizen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No thought to be good soldiers but proved others wrong(Glory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Andersonville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One of the largest military prison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Established during the civil war 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as designed to hold 10,000 prisoners but was filled with 22,000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Just a few months later it was soon filled with 32,000 prisoners 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5:26:14Z</dcterms:created>
  <dc:creator>Yarmouth Schools</dc:creator>
  <dc:description/>
  <dc:language>en-US</dc:language>
  <cp:lastModifiedBy>YHS Teacher</cp:lastModifiedBy>
  <dcterms:modified xsi:type="dcterms:W3CDTF">2009-06-15T16:27:21Z</dcterms:modified>
  <cp:revision>6</cp:revision>
  <dc:subject/>
  <dc:title>Final Review </dc:title>
</cp:coreProperties>
</file>